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499-6E89-4344-9470-0219BA72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07E-25E3-4DE7-89B0-619072CD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3EE-0EAA-4033-B30B-49E7FC08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F42-2C6D-4EA3-8438-D956F6E6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96D-EB85-44F0-932B-FA63A8B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01B-9620-4DAE-800A-52BA4BB6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FED-5E23-4337-95F6-60FD05F2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494-8114-41C7-A3D1-C60861BF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A0E-AEC4-440A-94C3-78470F6D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B33-2E37-4ABC-BD21-35F6AC94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02E-4C78-4CEE-BAAF-F72D0B0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C83-1EDA-4F55-B549-97C6BA81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FC2B1-09EC-4B86-84F1-42E5FCFA54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480" y="985680"/>
            <a:ext cx="1008036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480" y="860400"/>
            <a:ext cx="1008036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480" y="906480"/>
            <a:ext cx="10080360" cy="588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